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2825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67F-CFB1-47F6-A9E1-344E48D0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C2B-18D9-4E33-AC2F-636B67DD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C96-839D-4B53-8D9B-EEBA19B7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B8B-0337-4948-AC4C-BA1E7A22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E70-E4E3-405A-B27D-CAA7C4C8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DD0-49E8-487D-B6E0-F9106577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448-339D-47FE-8F99-B7F6E56C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E47-9FDC-4DCB-B32D-01701C08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109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557-D5E1-4261-9649-5C57AC74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143-D898-42C9-969E-487F9C04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9A0-43FD-4114-9000-4F0056F0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F6D-2022-4AD8-A4AB-E5543C93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247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6360"/>
            <a:ext cx="206352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6360"/>
            <a:ext cx="313704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5600" y="6246360"/>
            <a:ext cx="206388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FF400461-0458-4635-85AE-205B0DD4C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416800" cy="71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Bank and Trust Company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Trust Company (Cayman)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GANISATIONAL CHART as of Nov 1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4120" y="3048120"/>
          <a:ext cx="829152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3048120"/>
                    <a:ext cx="829152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90440" y="857160"/>
            <a:ext cx="15858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L. Lowell, J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8920" y="857160"/>
            <a:ext cx="1586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xecutive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89320" y="857160"/>
            <a:ext cx="15876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les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67360" y="785880"/>
            <a:ext cx="1333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Trus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Humphre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3160" y="785880"/>
            <a:ext cx="1968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Private Label Funds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0480" y="6000840"/>
            <a:ext cx="374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* A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# B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@ Member Local Managemen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58920" y="2428920"/>
            <a:ext cx="14590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TRA-AL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1440" y="2428920"/>
            <a:ext cx="139680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Spinn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7440" y="2428920"/>
            <a:ext cx="12682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PR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27880" y="6286680"/>
            <a:ext cx="1585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d Count: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4:30:21Z</dcterms:created>
  <dc:creator>J.B.B.T</dc:creator>
  <dc:description/>
  <dc:language>en-US</dc:language>
  <cp:lastModifiedBy>Rudolf</cp:lastModifiedBy>
  <cp:lastPrinted>2000-10-27T14:38:22Z</cp:lastPrinted>
  <dcterms:modified xsi:type="dcterms:W3CDTF">2004-01-28T20:47:55Z</dcterms:modified>
  <cp:revision>4</cp:revision>
  <dc:subject/>
  <dc:title>Julius Baer Bank and Trust Company Ltd. Julius Baer Trust Company (Cayman) Ltd. ORGANISATIONAL CHART as of Oct 1, 2000</dc:title>
</cp:coreProperties>
</file>